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24B5-0265-4414-BD4D-5B235B6F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90AE-C5AB-403E-A673-F50471C0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0EB4-F9C8-40EF-9AD9-22C04E79C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79E4-F3F8-4EEC-80A0-8927C956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FAA8-C170-4E4C-BAAD-951DEADB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041E-D85D-4882-A5D6-84978CBF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F8C1-03A4-4CC6-AE1C-353A5089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AACF-C268-4411-B7B1-C7C01742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F91E-4876-458F-AE43-9BB8D35A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0A29-B821-4BBE-9F4E-565B3202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4CD7-DCE4-4E80-80A9-3DDA95FE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F43C-8CD1-49D8-8CE3-6267A880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D7F8-3ABC-457C-9C46-1834EA40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D464-1150-47D9-BFD0-A12B77B3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8D3B-DF1C-4289-AA2D-9D7990FE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AFEC-F030-48AB-930A-825ABF48F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8E51-E7EA-4DE5-A937-D06EC37D2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CBD0-8A1A-4606-91F1-C8606B17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97A9-3376-4EAB-84BF-139438B7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7ED0-8869-4819-BA4A-D09443E6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3DB9-8764-42B7-AC99-841C8133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B7F6-DAA3-465F-AA78-983EE29D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91B9-E754-4AD9-A59A-95469D7C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952C-8137-4872-B60B-0C623B80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1863-09F4-4FC9-87E5-45E85A115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311C-6666-4414-ADC3-2613EF399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7"/>
          <p:cNvSpPr/>
          <p:nvPr/>
        </p:nvSpPr>
        <p:spPr>
          <a:xfrm>
            <a:off x="4000680" y="198900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International Conferen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559160" y="2755800"/>
            <a:ext cx="63302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Industrial Dynamism and Competitivenes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in the East Asian Economi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680760" y="6237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une 22-23, 2009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411280" y="6237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im H.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3"/>
          <p:cNvSpPr/>
          <p:nvPr/>
        </p:nvSpPr>
        <p:spPr>
          <a:xfrm>
            <a:off x="684360" y="2781360"/>
            <a:ext cx="6121080" cy="25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1411560" y="28321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Part-01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440880" y="2768760"/>
            <a:ext cx="318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2010 </a:t>
            </a:r>
            <a:r>
              <a:rPr b="0" lang="ko-KR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서울대학교 법과대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Line 7"/>
          <p:cNvSpPr/>
          <p:nvPr/>
        </p:nvSpPr>
        <p:spPr>
          <a:xfrm>
            <a:off x="2600280" y="2852640"/>
            <a:ext cx="0" cy="432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0"/>
          <p:cNvSpPr/>
          <p:nvPr/>
        </p:nvSpPr>
        <p:spPr>
          <a:xfrm>
            <a:off x="554760" y="692280"/>
            <a:ext cx="508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International Conference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5191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대판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998. 9. 4, 96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1327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람은 자신의 사생활의 비밀에 관한 사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공중의 정당한 관심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공중의 정당한 관심의다섯째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공중의 정당한 관심의다섯째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05:45:41Z</dcterms:created>
  <dc:creator>XP</dc:creator>
  <dc:description/>
  <dc:language>en-US</dc:language>
  <cp:lastModifiedBy>user</cp:lastModifiedBy>
  <dcterms:modified xsi:type="dcterms:W3CDTF">2021-04-08T02:01:30Z</dcterms:modified>
  <cp:revision>10</cp:revision>
  <dc:subject/>
  <dc:title>슬라이드 1</dc:title>
</cp:coreProperties>
</file>