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386-8B3C-4269-9288-FA56E2AC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BE7-6428-46B4-87E1-04D7F20B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103-DD1B-47AC-857A-D77DD48B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EB7-9525-4818-87EF-3A12E3D6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2BF5-0AFF-4086-BE04-890D20B2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0314-C92A-48E5-A0EE-A97CF11C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1A8B-C055-44A4-97AB-455DD449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ADE6-6F15-4B3A-8514-DF564833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B3DD-49F3-46A8-85D6-9AA0D397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6D18-2CF5-4CF6-AD5A-DAC742C9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8E60-725F-4513-8E3C-27AE92BA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D3A-B2CC-40ED-8232-77198728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6664-F174-4B7D-9E18-D60A5FAC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F1F4-4B7F-4D3B-BB4E-885C1B84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E8F9-30F7-4593-9584-E2EA7553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7F00-7EDE-4228-A4AD-04B85E2D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56D0-79F8-4D37-8A27-41CCE8E4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3EB-4D39-4D81-BDD9-2B35A84E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8B4-9B2A-43CF-8F32-F6463B92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824-B1CF-4620-932B-F4996898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007-C333-4801-BBCC-951A90ED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19A-0956-4232-9A5E-5AD5A693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0E9-3FB2-4016-8D8D-934D66A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D72-3684-457D-83D4-F509A6AD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D604-E6BE-4F32-920A-89F4283DB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0C35-2FE0-4872-88DC-377B13A2D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4000680" y="19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ternational Con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559160" y="2755800"/>
            <a:ext cx="63302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dustrial Dynamism and Competitive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the East Asian Econom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8076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ne 22-23, 200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11280" y="623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m H.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3"/>
          <p:cNvSpPr/>
          <p:nvPr/>
        </p:nvSpPr>
        <p:spPr>
          <a:xfrm>
            <a:off x="684360" y="2781360"/>
            <a:ext cx="61210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2010 </a:t>
            </a:r>
            <a:r>
              <a:rPr b="0" lang="ko-KR" sz="2000" spc="-1" strike="noStrike">
                <a:solidFill>
                  <a:srgbClr val="4d4d4d"/>
                </a:solidFill>
                <a:latin typeface="HY견고딕"/>
                <a:ea typeface="HY견고딕"/>
              </a:rPr>
              <a:t>서울대학교 법과대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411560" y="2832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Part-01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40880" y="2768760"/>
            <a:ext cx="31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0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울대학교 법과대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Line 7"/>
          <p:cNvSpPr/>
          <p:nvPr/>
        </p:nvSpPr>
        <p:spPr>
          <a:xfrm>
            <a:off x="2600280" y="285264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"/>
          <p:cNvSpPr/>
          <p:nvPr/>
        </p:nvSpPr>
        <p:spPr>
          <a:xfrm>
            <a:off x="554760" y="6922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International Conferenc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47840" y="141768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998. 9. 4, 96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1327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람은 자신의 사생활의 비밀에 관한 사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중의 정당한 관심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정당한 관심의다섯째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5:45:41Z</dcterms:created>
  <dc:creator>XP</dc:creator>
  <dc:description/>
  <dc:language>en-US</dc:language>
  <cp:lastModifiedBy>user</cp:lastModifiedBy>
  <dcterms:modified xsi:type="dcterms:W3CDTF">2021-04-08T02:01:22Z</dcterms:modified>
  <cp:revision>7</cp:revision>
  <dc:subject/>
  <dc:title>슬라이드 1</dc:title>
</cp:coreProperties>
</file>