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63A-739D-4715-8591-9CF350CB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C75-07BE-4157-BC61-0AFBF69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4E9-9A41-4F88-87B2-14B3B3A2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006-3F2E-4125-95A1-74B71438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389-864D-4768-8F2E-6FA66BA0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7604-0DFA-4386-A6DC-6C52ECA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2DA-EF0F-43C7-B857-244E4A8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E032-56CC-4D06-A284-02C37ED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D48-B9FC-4943-94B4-F0CCFE8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FA6F-C85B-4F5F-A477-E84503E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FB1F-2898-4E92-BE83-9C124C8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33D-9DAA-4B7B-A6C1-FAE0896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CF9-6F31-4883-B4AE-CFC5B04B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795-A810-4ED5-A74A-93D88F9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820-B42C-4437-85E0-01AA7FB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D6F-62C2-4D25-87BB-60588BDE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E49F-E2B5-4305-B5A7-B6A7E00A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7A8-5128-4146-95BF-FC2852B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A87-B9D0-4831-BC40-15F4BBE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D84-FD1A-44AE-B00A-08244D35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A87-9EAC-409D-9B8E-F056D2C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F76-1B1D-47C6-9F13-F9983E6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7D0-2305-406A-9A6E-982BB7C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030-027F-4313-8E62-7A53296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308-641A-4AD1-8BA9-C652C2B5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C85-4B03-4D0C-875D-B9278149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40Z</dcterms:modified>
  <cp:revision>10</cp:revision>
  <dc:subject/>
  <dc:title>슬라이드 1</dc:title>
</cp:coreProperties>
</file>