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99B-8B09-4F58-B55D-75891C38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1B5-EAE7-42A7-B540-CD5C300D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3DB-B9CC-47B2-9CA1-8C57FDC2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0DF-0052-4D7A-8127-3977BD13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A424-1367-4AE6-B905-E9D65D48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6A87-F7B6-417F-8120-0D37E907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D8EB-818E-4F71-A3E1-F2B61D61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11EE-AC93-4281-9302-D21C11A2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D508-6928-4F0F-A654-9542BFB7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DB35-5C66-4423-B0F2-11CB2BA5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5854-5588-44E1-92F6-607FC069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1B6-3565-4C77-A0EC-A72CF5C9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C175-39D3-435E-8418-F0066EF2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5D92-60BD-4EA3-97A8-92F9BBB1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4164-DFAF-4839-8E45-700928E8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9808-F157-49B3-A0C8-A4B98C97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0DB3-AC2A-4CA0-B9F4-7BD479CA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D1A7-4916-41BB-92E4-149C21F7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0FC-F14A-4EFA-A858-A8C73BF9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5FD-28E3-41CB-891B-94DB2E44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9BE-7846-41AD-9A10-E339FBB2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6C0-562A-4463-A182-104E77CB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955D-25B9-42C8-9C81-E27E29C4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561-024E-4601-A3D9-4262331B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64DF-1F08-488E-B1FB-15E3376B2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AE9F-98C8-4F3C-A713-229963FAB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4000680" y="198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ternational Confere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559160" y="2755800"/>
            <a:ext cx="63302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dustrial Dynamism and Competitiven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 the East Asian Economi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80760" y="6237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ne 22-23, 2009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411280" y="623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m H.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3"/>
          <p:cNvSpPr/>
          <p:nvPr/>
        </p:nvSpPr>
        <p:spPr>
          <a:xfrm>
            <a:off x="684360" y="2781360"/>
            <a:ext cx="612108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411560" y="2832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Part-01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40880" y="2768760"/>
            <a:ext cx="31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0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울대학교 법과대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Line 7"/>
          <p:cNvSpPr/>
          <p:nvPr/>
        </p:nvSpPr>
        <p:spPr>
          <a:xfrm>
            <a:off x="2600280" y="285264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0"/>
          <p:cNvSpPr/>
          <p:nvPr/>
        </p:nvSpPr>
        <p:spPr>
          <a:xfrm>
            <a:off x="554760" y="692280"/>
            <a:ext cx="50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International Conferenc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47840" y="141768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판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998. 9. 4, 96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132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람은 자신의 사생활의 비밀에 관한 사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중의 정당한 관심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5:45:41Z</dcterms:created>
  <dc:creator>XP</dc:creator>
  <dc:description/>
  <dc:language>en-US</dc:language>
  <cp:lastModifiedBy>user</cp:lastModifiedBy>
  <dcterms:modified xsi:type="dcterms:W3CDTF">2021-04-08T02:01:22Z</dcterms:modified>
  <cp:revision>7</cp:revision>
  <dc:subject/>
  <dc:title>슬라이드 1</dc:title>
</cp:coreProperties>
</file>