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B75-0E17-4491-A95B-6DA81418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7D2-D17C-495D-A2E5-EE48838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66C-7E29-4D6B-B1F5-7EAEFB16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04-935B-48D4-AA39-88336C2F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669-84A7-403D-8038-F4B31502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D4D-7A20-4D8B-B5C0-E34B5FCC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B24D-9635-47E7-8121-C8D3C82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6EA-E448-4A53-B956-9FADB55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F610-39D5-4115-8B6A-85861AC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66EB-F41B-4E08-9AE9-95022E40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260D-2084-467B-8252-FCDB9AC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C29-C74B-4F31-9283-BE84371E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804-24AF-49EA-AD6F-D1F1C4F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79C-0284-4FBD-96DD-7D1DF43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4649-6FA6-49B5-AE45-386A20D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87F-E73D-4406-B64E-9F58C008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1B2-1B8A-4E9D-9268-AA0A506B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4F1-A056-4999-B159-B4233B9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31D-D83D-41EE-9B30-A8BBCB6D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994-A593-492D-98D6-920A17B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BB0-AC25-4D63-87AF-D566E82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F38-286A-4F86-A529-185E386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620-46D5-4B64-BCB9-B7A38304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96C-C44E-4AE1-97B2-C49DC75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9C9E-2577-4495-B343-1C171A27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285-70A0-4DD9-83AE-7FA03CEC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30Z</dcterms:modified>
  <cp:revision>10</cp:revision>
  <dc:subject/>
  <dc:title>슬라이드 1</dc:title>
</cp:coreProperties>
</file>