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98DB-9D78-41CB-A2CA-B61E352F0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9540-A67A-475C-B85E-E26EF0599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16EE-D6E3-4EFE-984E-F40E19080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726B-2E1E-4A5C-86B4-744140B92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600B6-73F4-4FFE-96FC-938953A39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E2DC0-9E0F-41C6-96CD-47AFF8C3C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4E777-4627-4446-8A30-E59112FDE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C4146-A564-4B6D-909F-0BC0F7714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56F02-DE4A-4F4E-B35F-624B96030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C5E49-7056-44B8-9DAF-39F5C8FE3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95801-B139-48FD-8FEC-F1E7F393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5FF2-8784-4AA8-947C-051BF49C2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4D4FC-BB9E-4488-98E5-5B7D7B2A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BC3CB-E3A0-499A-BF42-11FE4551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AD8B2-4050-44E5-B4B7-270177DA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EAE35-BF9C-4CDF-AF71-5E30BB447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1FAB6-643E-40A0-B99B-ADE65C468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19D4-90C6-4B2B-B058-0A58907A6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08C9-02B7-44A6-94C8-6E1438C04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9B85-2F9F-4342-A182-F74E5526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11D2-3848-4CE6-BBD0-9DD29CDB3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ED36-C476-483D-A610-7A0BA532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2882-92CF-4E4C-9BCE-0D311F1B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9259-3F7A-403F-BDF7-D807F581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706FB-A2BE-4F54-A9C9-27434A779C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71F12-E2EA-424E-B587-98DEC91629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7"/>
          <p:cNvSpPr/>
          <p:nvPr/>
        </p:nvSpPr>
        <p:spPr>
          <a:xfrm>
            <a:off x="4000680" y="198900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International Conferenc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1559160" y="2755800"/>
            <a:ext cx="633024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Industrial Dynamism and Competitivenes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in the East Asian Economic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680760" y="6237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June 22-23, 2009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2411280" y="623736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im H.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3"/>
          <p:cNvSpPr/>
          <p:nvPr/>
        </p:nvSpPr>
        <p:spPr>
          <a:xfrm>
            <a:off x="684360" y="2781360"/>
            <a:ext cx="6121080" cy="25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HY견고딕"/>
                <a:ea typeface="HY견고딕"/>
              </a:rPr>
              <a:t>2010 </a:t>
            </a:r>
            <a:r>
              <a:rPr b="0" lang="ko-KR" sz="2000" spc="-1" strike="noStrike">
                <a:solidFill>
                  <a:srgbClr val="4d4d4d"/>
                </a:solidFill>
                <a:latin typeface="HY견고딕"/>
                <a:ea typeface="HY견고딕"/>
              </a:rPr>
              <a:t>서울대학교 법과대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HY견고딕"/>
                <a:ea typeface="HY견고딕"/>
              </a:rPr>
              <a:t>2010 </a:t>
            </a:r>
            <a:r>
              <a:rPr b="0" lang="ko-KR" sz="2000" spc="-1" strike="noStrike">
                <a:solidFill>
                  <a:srgbClr val="4d4d4d"/>
                </a:solidFill>
                <a:latin typeface="HY견고딕"/>
                <a:ea typeface="HY견고딕"/>
              </a:rPr>
              <a:t>서울대학교 법과대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HY견고딕"/>
                <a:ea typeface="HY견고딕"/>
              </a:rPr>
              <a:t>2010 </a:t>
            </a:r>
            <a:r>
              <a:rPr b="0" lang="ko-KR" sz="2000" spc="-1" strike="noStrike">
                <a:solidFill>
                  <a:srgbClr val="4d4d4d"/>
                </a:solidFill>
                <a:latin typeface="HY견고딕"/>
                <a:ea typeface="HY견고딕"/>
              </a:rPr>
              <a:t>서울대학교 법과대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HY견고딕"/>
                <a:ea typeface="HY견고딕"/>
              </a:rPr>
              <a:t>2010 </a:t>
            </a:r>
            <a:r>
              <a:rPr b="0" lang="ko-KR" sz="2000" spc="-1" strike="noStrike">
                <a:solidFill>
                  <a:srgbClr val="4d4d4d"/>
                </a:solidFill>
                <a:latin typeface="HY견고딕"/>
                <a:ea typeface="HY견고딕"/>
              </a:rPr>
              <a:t>서울대학교 법과대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5"/>
          <p:cNvSpPr/>
          <p:nvPr/>
        </p:nvSpPr>
        <p:spPr>
          <a:xfrm>
            <a:off x="1411560" y="283212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Part-01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3440880" y="2768760"/>
            <a:ext cx="318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2010 </a:t>
            </a:r>
            <a:r>
              <a:rPr b="0" lang="ko-KR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서울대학교 법과대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Line 7"/>
          <p:cNvSpPr/>
          <p:nvPr/>
        </p:nvSpPr>
        <p:spPr>
          <a:xfrm>
            <a:off x="2600280" y="2852640"/>
            <a:ext cx="0" cy="432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0"/>
          <p:cNvSpPr/>
          <p:nvPr/>
        </p:nvSpPr>
        <p:spPr>
          <a:xfrm>
            <a:off x="554760" y="692280"/>
            <a:ext cx="508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SimSun"/>
              </a:rPr>
              <a:t>International Conference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51912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대판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998. 9. 4, 96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1327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람은 자신의 사생활의 비밀에 관한 사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공중의 정당한 관심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공중의 정당한 관심의다섯째 수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공중의 정당한 관심의다섯째 수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9T05:45:41Z</dcterms:created>
  <dc:creator>XP</dc:creator>
  <dc:description/>
  <dc:language>en-US</dc:language>
  <cp:lastModifiedBy>user</cp:lastModifiedBy>
  <dcterms:modified xsi:type="dcterms:W3CDTF">2021-04-08T02:01:40Z</dcterms:modified>
  <cp:revision>10</cp:revision>
  <dc:subject/>
  <dc:title>슬라이드 1</dc:title>
</cp:coreProperties>
</file>