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EDD-AEAA-4AAF-8F26-B0E6DC6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31A-22AB-4C2C-AB18-8C9AACF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F57-796F-48EB-B8FE-FBBB6F6C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FF1-A262-48E5-A9F5-D89E1001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CAD0-6A0A-452A-A0C1-C3BB0CAE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D9B-7D16-4448-9634-07D68EF5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5BE7-7A17-4785-AFD2-B5F40AEC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A433-A4D1-4536-899D-A5243106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ADF2-3582-4D2A-AE2E-C7240189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AE8-8259-471E-89D0-30325E0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6802-C9F0-4C46-954F-6A87BAC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AA5-F3ED-4DEA-B1FC-F2C97B13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3BDD-AC2F-43DD-8AF8-A58E4C7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4031-609C-4763-AB65-D8567B3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03EC-F007-477F-81A3-03D198B3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056B-3CDE-47C3-878C-0A102D0F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C297-156A-4003-AE6C-E76B43D2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A34-55AD-425F-9A4F-98FDA99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667-CB39-4292-9F65-578AADA6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C1E-FFDA-4F6B-AB95-148444D7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394-FD20-495C-9C23-A9B25BC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80D-8AF7-4351-8099-C538CFBE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BC8-5E00-4D65-B978-0F7E8F8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9E1-C273-43AC-A4E3-0F703B0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FF4-A122-416D-BC5F-A24DEE0F4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ECD5-CABC-4031-8121-C367F482F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47840" y="141768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22Z</dcterms:modified>
  <cp:revision>7</cp:revision>
  <dc:subject/>
  <dc:title>슬라이드 1</dc:title>
</cp:coreProperties>
</file>