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772-AB68-4F2B-BE7E-E9E7FBCD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8D7-3A05-4DA4-9427-6062D71F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5AC8-5939-45C8-A0E6-6CB27D5A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758-F1FA-440A-8668-8D3ACCDA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F304-AA8C-4AE3-B6D9-40DD145F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24A0-EBA7-4615-978B-227DC8F8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D0AF-FAFB-4DDA-BC51-DA382FE3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3EE6-EB8C-449E-ABA6-5BC7381E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A271-882F-4336-B93F-8AA74FAA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8095-D7FB-49C0-84C7-19983C8F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4D0E-8A66-4E7D-A4C9-85A69BA0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4864-267C-4975-8659-2EE2E57F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3DAD-EA6B-493D-B4DF-6B3D731B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6384-D520-40BD-8ABF-3DC40C22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1417-7CCC-4C54-943D-F6443F1A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6DD8-4A26-4920-AEE4-BD62A6EF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98D0-5474-4130-81D5-0A256EF1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FBB6-E250-4BC6-879E-8BCF0BC8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1CCA-4F3E-486A-B05D-F89B00B5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4148-4008-4682-BEAA-11F9F076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581-C730-45A2-A7D5-5DA801B1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818-9635-44F5-B078-655B5E72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083-5A88-482A-9C9C-5B8139D6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98C4-BAC0-4142-9469-1E293AC7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FF00-287E-4C93-901B-02752E63F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B6B1-5730-437F-B51B-4D5144324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4000680" y="198900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ternational Conferen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559160" y="2755800"/>
            <a:ext cx="63302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dustrial Dynamism and Competitivenes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 the East Asian Economi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680760" y="6237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ne 22-23, 2009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411280" y="6237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im H.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3"/>
          <p:cNvSpPr/>
          <p:nvPr/>
        </p:nvSpPr>
        <p:spPr>
          <a:xfrm>
            <a:off x="684360" y="2781360"/>
            <a:ext cx="612108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1411560" y="2832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Part-01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440880" y="2768760"/>
            <a:ext cx="31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2010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서울대학교 법과대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Line 7"/>
          <p:cNvSpPr/>
          <p:nvPr/>
        </p:nvSpPr>
        <p:spPr>
          <a:xfrm>
            <a:off x="2600280" y="285264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0"/>
          <p:cNvSpPr/>
          <p:nvPr/>
        </p:nvSpPr>
        <p:spPr>
          <a:xfrm>
            <a:off x="554760" y="692280"/>
            <a:ext cx="50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International Conference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5191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대판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998. 9. 4, 96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1327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람은 자신의 사생활의 비밀에 관한 사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중의 정당한 관심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정당한 관심의다섯째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정당한 관심의다섯째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5:45:41Z</dcterms:created>
  <dc:creator>XP</dc:creator>
  <dc:description/>
  <dc:language>en-US</dc:language>
  <cp:lastModifiedBy>user</cp:lastModifiedBy>
  <dcterms:modified xsi:type="dcterms:W3CDTF">2021-04-08T02:01:30Z</dcterms:modified>
  <cp:revision>10</cp:revision>
  <dc:subject/>
  <dc:title>슬라이드 1</dc:title>
</cp:coreProperties>
</file>