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C8F-3F29-4C45-B771-A46E1D23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066-6B9F-42E2-B203-5B55CCBA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96E-692F-46C5-9FE2-8FBFFD8B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B33-6084-4227-88D0-7D652014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EABD-5A87-4122-AC3D-0183B4FF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BDA4-BD34-4416-B386-0E69984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7425-8AA3-4EB9-AC5D-31EF307B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3095-1C8A-4F1B-B79A-37B1390F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B27A-EA05-4261-90FE-AAD8DD89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C3E1-47DE-4A37-9DA9-50DDD89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DB45-142F-4DC7-9565-858A08EE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C37-32BD-45F5-B919-BB8F49E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A187-ACF2-4A1A-B40F-D133A19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325A-636A-4764-A745-8B9880C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9FC3-FF69-4BCE-AAB2-3A58875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5C6D-B143-4105-9384-4CF7BF21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12F6-6AC5-4F07-9B4A-4671CA8D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61C-41F6-43F2-A4F8-A66D840A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C77-D4EA-4B23-8571-B8B6A3C2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2F1-3E37-4774-B192-C48D9C54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60A-53E8-48D6-9985-1C1A03AA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8CA-B4B7-4737-8336-D49B2B2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41D-B7D9-4810-99A7-F2186DE2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67C-CC96-40B0-81DA-6835402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ED3-F64E-4EF3-94E6-693169CD1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9D87-0A33-45ED-99F9-16FAC5C9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40Z</dcterms:modified>
  <cp:revision>10</cp:revision>
  <dc:subject/>
  <dc:title>슬라이드 1</dc:title>
</cp:coreProperties>
</file>