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F7D-2A93-4FC6-B866-30B08E94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609-B0F9-4284-80EE-47F04F5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0FB-3BCE-4624-93A2-45CEAD78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7AA-3809-4B21-910C-94286444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9776-BF12-4B5B-8A4D-0D0D37D6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FFC5-11F1-46A3-BCEE-6ACEAA7A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7FCB-5E0E-40FA-829B-FB206704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0B10-303D-472C-B43E-8A10E8B7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8141-3A35-47CF-A6B8-153A702D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7AEE-FF49-414F-B81D-F5EE4904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72A8-C856-4E8E-A7F6-4636E41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AA7-8DE4-4F0D-A64C-63D51E63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8157-D669-42A0-B269-535256A8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5EAD-6CA2-4EA9-9AE7-48887CD6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BB0D-58DE-4788-B154-108E93F7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D97A-4211-489C-BCD9-C1CE88F8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EFB8-1F4E-4489-9125-8E9878D9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689-B035-44DE-8AC0-6FBF4008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334-0AC6-44E6-9A74-3EAA3BEE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08F-7B33-403E-85CC-08AAE09F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1EE-3D5D-4FD4-B82F-2EF29E17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B85-6F74-4B24-8667-ACA8FAFE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589-4DA1-4A39-A298-1017218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8B1-0950-44CC-B8D0-5EC0A9CC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7491-26E9-4D75-9BB2-BB6E48B3B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EC21-49AC-4DBF-92E5-17473C6B0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47840" y="141768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22Z</dcterms:modified>
  <cp:revision>7</cp:revision>
  <dc:subject/>
  <dc:title>슬라이드 1</dc:title>
</cp:coreProperties>
</file>