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5E3-B2B3-4314-91EB-BA00966B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897-FB95-43AF-9E12-B85CC6A6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75B-5293-4DFD-852E-2851D3B4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8F3-8F07-49F1-872A-39577385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ECA8-6658-4D48-A493-E3653A10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3A6F-61EA-452E-BBD8-27FD72C1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A9F1-949D-4155-AA76-19913988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6838-448C-4C3D-8A7F-E0297224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FDD0-702C-45DC-A04E-7DFC36E7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C508-BD91-4042-8F9F-96FC9831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C871-D884-49B4-959E-57099EE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73B-2EEE-4137-9D04-02A60920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7ECF-2708-4197-AD6F-D330CB53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6C08-5EAE-47D6-BCCD-7F4CB29B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27D1-AE66-46EF-BF38-DAB016DF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3766-05E9-4875-BB7A-2F487573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3024-5814-4856-B304-B869377D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9F3-7C70-47F9-9A1F-DAC5B849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3B4-19A5-47CA-A07B-883134E3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D5A-99D9-4FD4-8242-6777CA2B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692-DC13-48FD-9BB2-4722E1B8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AFB-0EAF-4C8D-90C8-F87FBBD1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60C-4751-450F-B277-CBAE1AE7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210-01C8-46B2-BC4E-3B0E422B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1661-9499-4F14-8115-C559B5C8E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86B2-265B-4876-BA05-66101B4B4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30Z</dcterms:modified>
  <cp:revision>10</cp:revision>
  <dc:subject/>
  <dc:title>슬라이드 1</dc:title>
</cp:coreProperties>
</file>