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79E-4984-4BF8-9FA3-FA69FC63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2E1-3741-478A-BE2D-339C0044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581-B72F-4F1F-9DF3-7844CA7D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CE9-3BB8-4351-BCF3-F50BA102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8E57-085E-41CD-AF48-E51CB772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1F3C-01EB-4D07-BB57-D9BFC055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406-FA4F-4EED-876E-6F67236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BB0A-05BD-4C37-9A79-FE6C00F4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E9A4-63E8-4866-84CE-5D4B654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3FCF-74D3-4DC7-9280-10CF5062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BEB-8B80-406C-BEED-D8F17A5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DEA-0499-4104-BD2E-F20EDF4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86A-D4BF-4DC0-84D0-6667614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A58-0E3A-4ACD-BBED-28C222B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621-2D4B-49DF-A3FC-788098FA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8CF6-B73F-4096-8AF5-AFD84713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DB3-B746-4DD8-A782-CAF06DB4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4C7-D559-4DA9-8C40-2751E50A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77D-85D4-455E-93F2-1483BFC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C46-E57F-4B7E-9B71-A5D91B29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DA4-F49A-4178-841E-9F174A4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C62-6BD7-4323-A543-CBE68A4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759-73CA-4FE8-9B50-AA1B458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6EB-8884-4EB0-A1AF-3D9CDBB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156-9BF4-4454-B32D-76857D61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0554-F2E8-48C9-8891-25F24B3D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40Z</dcterms:modified>
  <cp:revision>10</cp:revision>
  <dc:subject/>
  <dc:title>슬라이드 1</dc:title>
</cp:coreProperties>
</file>